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17F06984-1715-4735-8303-6F58C7655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6D3259D9-E9B4-425E-8499-53938BA2B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B18D622E-DF80-47A3-9B60-B9D1D61BD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7C8A10C3-FFCE-4E56-BB6E-65DE1085B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EF820038-BC17-4227-BF5B-087A065EF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4464B439-9789-4560-B52A-774410B73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510635C4-0C45-44F9-9505-0E341AAC6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67A9C909-DE79-4DFC-8ECC-D46262CBA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59D5AF31-6BEF-401F-9126-C166EC4F7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E445EB63-910F-46F8-AA74-8A888BF94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4B8452B9-1B1F-4711-BDF8-22AB708FB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AAD4AE2C-B709-4C96-A91A-C7FF7257F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24F9BC30-03B8-47E4-AB70-3F167506E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A3BCEC02-9E5B-4360-B93C-9D477DD2C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28897924-3C35-4C7D-AD5F-1B7DB0AEA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D9CAE6D8-E19D-4E97-AD61-C416F8117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E292A095-392F-4163-BFB0-BE69CA94E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A472825D-3BE0-4796-95E9-125F348C1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4305C0F7-E6C4-4267-8F19-4C9D86DEE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06561692-8CBA-4C38-BD8B-E13C28983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EFF96344-B691-4D79-A1F2-E43EE80C8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49769522-80CD-4986-B983-E73638095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27C-BFC1-41C9-A8BA-24A0E8DC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265-8710-4322-8BC6-56D2623C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20C-0FC8-4819-9A45-41E5FECC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58D-1410-42F2-880B-A9BD9DA3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9C1-469C-4A91-A1E6-078152BD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91A-FFBB-420E-AFCF-BFFE82E0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239-95B8-48F7-A758-CEAED7F9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33F-5D5D-47E5-8282-BB64DD59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249-69ED-4615-8D57-5A64B00D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073-C8BE-48A9-BE47-44659E97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656-C7AD-492A-9D91-4746B233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F51-CDE7-46D9-8E1C-7E089F82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228680" indent="-174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579680" indent="-174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1579680" indent="-174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1579680" indent="-174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en-US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lstStyle>
            <a:lvl1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en-US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978D5A76-1BC8-4117-A118-134CEEC17F0C}" type="slidenum">
              <a:rPr b="0" lang="en-US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685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4700" spc="-1" strike="noStrike">
                <a:solidFill>
                  <a:srgbClr val="17375e"/>
                </a:solidFill>
                <a:latin typeface="ELEGANCE"/>
                <a:ea typeface="ELEGANCE"/>
              </a:rPr>
              <a:t></a:t>
            </a:r>
            <a:br>
              <a:rPr sz="4700"/>
            </a:br>
            <a:r>
              <a:rPr b="0" lang="en-US" sz="4700" spc="-1" strike="noStrike">
                <a:solidFill>
                  <a:srgbClr val="17375e"/>
                </a:solidFill>
                <a:latin typeface="ELEGANCE"/>
                <a:ea typeface="ELEGANCE"/>
              </a:rPr>
              <a:t></a:t>
            </a:r>
            <a:br>
              <a:rPr sz="4700"/>
            </a:br>
            <a:r>
              <a:rPr b="0" lang="en-US" sz="4700" spc="-1" strike="noStrike">
                <a:solidFill>
                  <a:srgbClr val="17375e"/>
                </a:solidFill>
                <a:latin typeface="ELEGANCE"/>
                <a:ea typeface="ELEGANCE"/>
              </a:rPr>
              <a:t>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May 4, 200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L.P.S. VIPS Mee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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ELEGANCE"/>
                <a:ea typeface="ELEGANCE"/>
              </a:rPr>
              <a:t>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2280" y="15235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Student has their own record/row to start wit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 want all the siblings grouped together and in alpha order, so we do a 3-way sort by STUDENT LAST NAME, VOLUNTEER NAME, then STUDENT FIRST NA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will also show us which students have multiple households, which we’ll need to know later.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will be multiple rows for those stud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 insert new columns for Student (sibling) 2, 3 and 4’s name, grade and teacher and leave the columns blank for now (“Student 2”, “Grade 2” and “Teacher 2”, etc., to mentally link them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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-508" t="16838" r="0" b="0"/>
          <a:stretch/>
        </p:blipFill>
        <p:spPr>
          <a:xfrm>
            <a:off x="380880" y="1143000"/>
            <a:ext cx="8545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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rcRect l="-508" t="15156" r="0" b="2348"/>
          <a:stretch/>
        </p:blipFill>
        <p:spPr>
          <a:xfrm>
            <a:off x="457200" y="1219320"/>
            <a:ext cx="802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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lvl="1"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“move” the data from the original row up and over into those fields for each sib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way each family has one row/reco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 saves paper when printing the directo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ete rows with blank student na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nce we “moved” the student data from the siblings’ rows, we now sort on “Student First Name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light and delete the records that now are blank in that field.  (i.e. Lenski goes from 600+ student rows to 450 family records, so we’re deleting about 25%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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lvl="1"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allow for students with multiple households w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d matching columns at very end of report with a reference to “second …..” or “Guardian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e columns will correspond with the Parent information columns from main repor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ve and Paste” second household info from “Main” report area to the end columns, so that they match u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lete those “old” rows where the second parents used to b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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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-1048" t="13469" r="0" b="4035"/>
          <a:stretch/>
        </p:blipFill>
        <p:spPr>
          <a:xfrm>
            <a:off x="190440" y="2209680"/>
            <a:ext cx="8534520" cy="435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4191120" y="2895480"/>
            <a:ext cx="7596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086600" y="2895480"/>
            <a:ext cx="30492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295280" y="2819520"/>
            <a:ext cx="30492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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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rcRect l="0" t="20201" r="0" b="4035"/>
          <a:stretch/>
        </p:blipFill>
        <p:spPr>
          <a:xfrm>
            <a:off x="343080" y="2514600"/>
            <a:ext cx="85341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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ing Microsoft Word, create a new merge document and choose “Directory” or “Catalog” as the type, depending upon your Word ver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sert all the fields you want to show in the directo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n’t include any dashes or parenthesis in Student area, or those will show for siblings’ lines…even if there aren’t any sibling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uble space after the final field is entered, so the end result will be double-spaced between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ou can manipulate the fields so be arranged however you pref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a font that is easy to read (Arial, Calibri, etc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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rcRect l="-508" t="15156" r="0" b="4035"/>
          <a:stretch/>
        </p:blipFill>
        <p:spPr>
          <a:xfrm>
            <a:off x="304920" y="1295280"/>
            <a:ext cx="8339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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5805" t="18519" r="10016" b="7403"/>
          <a:stretch/>
        </p:blipFill>
        <p:spPr>
          <a:xfrm>
            <a:off x="304920" y="1371600"/>
            <a:ext cx="8589960" cy="4724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905120" y="2971800"/>
            <a:ext cx="6094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81080" y="5715000"/>
            <a:ext cx="60984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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TOManager.co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current data for your students/families updated from Permission Form (see sample)   (**VERY important**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udent/Family list from school office for comparison and clar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soft Exc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soft Publish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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rcRect l="4754" t="15156" r="5805" b="2348"/>
          <a:stretch/>
        </p:blipFill>
        <p:spPr>
          <a:xfrm>
            <a:off x="457200" y="1295280"/>
            <a:ext cx="8153280" cy="4700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2133720" y="1600200"/>
            <a:ext cx="22860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209680" y="2666880"/>
            <a:ext cx="228600" cy="1981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981080" y="5410080"/>
            <a:ext cx="22860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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use Publisher to copy and paste these merged records into our 2-column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modify, format and then insert the additional pages we want t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ass Listing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TO Roster of Officers and event coordin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hool Calendar of Even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siness Directory with paid ads (“Yellow Pages”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use this form to obtain updates and permission to include them in the direc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17888" t="20201" r="17926" b="5716"/>
          <a:stretch/>
        </p:blipFill>
        <p:spPr>
          <a:xfrm>
            <a:off x="1371600" y="1219320"/>
            <a:ext cx="5943600" cy="4287600"/>
          </a:xfrm>
          <a:prstGeom prst="rect">
            <a:avLst/>
          </a:prstGeom>
          <a:ln w="0">
            <a:noFill/>
          </a:ln>
        </p:spPr>
      </p:pic>
      <p:sp>
        <p:nvSpPr>
          <p:cNvPr id="54" name="Title 1"/>
          <p:cNvSpPr/>
          <p:nvPr/>
        </p:nvSpPr>
        <p:spPr>
          <a:xfrm>
            <a:off x="6094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Gathering Data and Permission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(Merge with Wor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own Arrow 6"/>
          <p:cNvSpPr/>
          <p:nvPr/>
        </p:nvSpPr>
        <p:spPr>
          <a:xfrm rot="8914200">
            <a:off x="4169880" y="5254200"/>
            <a:ext cx="395280" cy="5508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43080" y="990720"/>
            <a:ext cx="1295280" cy="163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y info:  Please feel free to contact 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Down Arrow 8"/>
          <p:cNvSpPr/>
          <p:nvPr/>
        </p:nvSpPr>
        <p:spPr>
          <a:xfrm rot="15715800">
            <a:off x="1081080" y="1828800"/>
            <a:ext cx="192240" cy="14083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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:  Be sure you’re using the most updated information on your students/famil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you log in, click on “Reports” on top 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click on “Students” on left menu and “Search” at bottom right of screen (leaving all drop down menus blank so that all students will show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ce all the names appear, click “Save list to my computer” at bottom of left men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“”“”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Right Arrow 4"/>
          <p:cNvSpPr/>
          <p:nvPr/>
        </p:nvSpPr>
        <p:spPr>
          <a:xfrm rot="1695600">
            <a:off x="696600" y="2505240"/>
            <a:ext cx="1428840" cy="141120"/>
          </a:xfrm>
          <a:prstGeom prst="rightArrow">
            <a:avLst>
              <a:gd name="adj1" fmla="val 50000"/>
              <a:gd name="adj2" fmla="val 501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ight Arrow 5"/>
          <p:cNvSpPr/>
          <p:nvPr/>
        </p:nvSpPr>
        <p:spPr>
          <a:xfrm rot="1648200">
            <a:off x="117000" y="3497400"/>
            <a:ext cx="979560" cy="90360"/>
          </a:xfrm>
          <a:prstGeom prst="rightArrow">
            <a:avLst>
              <a:gd name="adj1" fmla="val 50000"/>
              <a:gd name="adj2" fmla="val 503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10080" bIns="1008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ight Arrow 6"/>
          <p:cNvSpPr/>
          <p:nvPr/>
        </p:nvSpPr>
        <p:spPr>
          <a:xfrm rot="7912800">
            <a:off x="7638480" y="3855960"/>
            <a:ext cx="978120" cy="79200"/>
          </a:xfrm>
          <a:prstGeom prst="rightArrow">
            <a:avLst>
              <a:gd name="adj1" fmla="val 50000"/>
              <a:gd name="adj2" fmla="val 494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4320" bIns="432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57200" y="1905120"/>
            <a:ext cx="301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229680" y="2895480"/>
            <a:ext cx="231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200" rIns="70200" tIns="35280" bIns="35280" anchor="t">
            <a:spAutoFit/>
          </a:bodyPr>
          <a:p>
            <a:pPr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8382960" y="3048120"/>
            <a:ext cx="231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200" rIns="70200" tIns="35280" bIns="35280" anchor="t">
            <a:spAutoFit/>
          </a:bodyPr>
          <a:p>
            <a:pPr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ight Arrow 11"/>
          <p:cNvSpPr/>
          <p:nvPr/>
        </p:nvSpPr>
        <p:spPr>
          <a:xfrm rot="1648200">
            <a:off x="117000" y="4259160"/>
            <a:ext cx="979560" cy="90720"/>
          </a:xfrm>
          <a:prstGeom prst="rightArrow">
            <a:avLst>
              <a:gd name="adj1" fmla="val 50000"/>
              <a:gd name="adj2" fmla="val 501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10080" bIns="1008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153360" y="3657600"/>
            <a:ext cx="231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200" rIns="70200" tIns="35280" bIns="35280" anchor="t">
            <a:spAutoFit/>
          </a:bodyPr>
          <a:p>
            <a:pPr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6705720" y="4724280"/>
            <a:ext cx="15228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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le Download” dialog box appears and gives you 3 choices.  Click “Ope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ew Excel spreadsheet will ope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very narrow colum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you can widen and rename columns at your discretion la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LE” “SAVE AS” right away  to a handy folder for easy access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 usually refer to it in the title as “Working Copy”, etc. (i.e. “Student Directory 09-10 working copy”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“”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-508" t="13469" r="0" b="5716"/>
          <a:stretch/>
        </p:blipFill>
        <p:spPr>
          <a:xfrm>
            <a:off x="380880" y="1447920"/>
            <a:ext cx="8339400" cy="4190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6934320" y="2133720"/>
            <a:ext cx="228600" cy="3352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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 1 column to the left side of your spreadshe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 label ours “DNI/MIA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NI means “Do Not Include” (per the permission for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A means “Missing in Action” because they did not return the form ….even after several attempts/prompts by us asking them for 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 “x” here means we rec’d the form WITH permis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ou will sort on this column in the Working Cop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DNI/MIA notations, clear all information except Student name, grade, teac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ert “Opt Out” in Phone field, so that’s what will print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“”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716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ave another copy of this Original Excel “as is” to use later to create class list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“class listing” in the title as you save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ample:  “Student Directory 09-10 for class listing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records, with each student having their own row, is how we prepare the class list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ree-way sort 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ent Last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22:22:17Z</dcterms:created>
  <dc:creator> </dc:creator>
  <dc:description/>
  <dc:language>en-US</dc:language>
  <cp:lastModifiedBy> </cp:lastModifiedBy>
  <dcterms:modified xsi:type="dcterms:W3CDTF">2009-05-03T20:57:57Z</dcterms:modified>
  <cp:revision>47</cp:revision>
  <dc:subject/>
  <dc:title>Using PTOManager.com to create a  Student Directory</dc:title>
</cp:coreProperties>
</file>